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6C2-499D-49E6-B5BD-D8DF0AFC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FBC-F878-47F7-984E-54FB939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78C-EA2F-4FB0-ABFD-F4ACD65C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93-2AF1-4A9E-82DE-0C1CCBDC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BF81-5D92-4403-AB6F-12D43A00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1BE3-437F-412B-B585-A1A22F0C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40FE-BA64-4B9E-BD64-AF6178F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950-3493-443A-AB3A-9F0B7748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B1B0-BE48-4C16-B5C6-849D0C3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846B-7DF8-47BE-BF75-BCFC6EC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799F-502C-42DD-AC52-72C579B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FD4-145D-40E6-8D8B-D743831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C80-4908-4124-96A9-23249AE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BB4-F3DB-40C5-9C6A-4DAF094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25D-387E-4EF2-9F9C-523CCE7E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6140-9448-4148-A84D-EE4B4213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103E-7A5A-4B8A-B925-2FE61AC0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C67-EE0B-4493-8E56-79F2CA47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BC0-2F5E-4514-93F4-CA334AC4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4B5-8CBC-4A77-B9A6-EA26451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ADC-4A8D-4DB4-A373-76396773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2CA-4DD9-4BB7-924F-61B5920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A21-82C3-465A-A69E-D5B715F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A12-C08E-4794-A02F-8F69A7A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219320"/>
            <a:ext cx="767052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C67-93B9-43CB-AD1C-B0ACCD03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D69-2F56-40DA-8AC6-70A50E46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01000" cy="243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El Deporte como</a:t>
            </a: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prevención de la violencia</a:t>
            </a: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en los jóvenes de riesgo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5333760"/>
            <a:ext cx="73152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ociación Altea -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B91-E3E9-4777-8056-DB966EB2C5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1.1.3.3. La mujer reclusa y el programa deportivo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MOTIVACIONES</a:t>
            </a:r>
            <a:r>
              <a:rPr b="0" i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 de la práctica deportiva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otivaciones  mayoritariamente con más del 90 %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ud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ersión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argar tension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044-0868-400A-A074-F437C1DF7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3. 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La mujer reclusa y el programa dep.</a:t>
            </a:r>
            <a:br>
              <a:rPr sz="3200"/>
            </a:br>
            <a:r>
              <a:rPr b="1" lang="en-US" sz="24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Influencias del programa en la vida de las presas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del 90 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reclusas, la práctica deportiva les ha ayudad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prender a aceptar 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mplir reglas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ar emocio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 sobre todo, par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i el 100 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reclusas les ha reportado, principalmente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licidad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554-4A2D-44EF-9320-376F41096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1.1.4. Conclusiones finales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esultados relevan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tencial del depor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la reeducación y reinserción de la población reclu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nt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sus aspectos físicos como psicológic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ándole además en su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cha contra su adicción a las drog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ctividad deportiva también apunta la capacidad de lograr uno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ábitos de convivencia hum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7A5-9A11-4BC2-BDC6-75378C80F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1.5.Continuidad del proyect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ursos de dinamización deportiva siguen funcionando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año es el noveno que se lleva a cabo dicho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EC9-3D47-4178-9168-0B47C9ADFA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30492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 2.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o de intervención en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rogramas de garantía social.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7CF-20F4-43B4-A851-4A633559F1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1.  Introducción: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como referente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sis doctoral d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dro J. Jiménez Martín ( 2000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yo objetivo era el diseño y puesta en práctica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o de intervención para educar en valores a jóvenes en riesgo a través de la actividad física y el depor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odelo supu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1º vez en Españ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ción de una actuación con jóvenes en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unto de referencia fueron los trabajos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nal Hell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93F-F330-4E4C-BD0F-03248E284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2. Ámbito de actuación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 centros del Programa de Garantía Social de la Comunidad de Madr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lectivo de la asignatura de Educación Fís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dirigid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de 14 a 18 añ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habían si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dos del sistema educa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que habí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as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mismo, pero también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desescolariz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esponsables fuero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um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último año de la carrera de Ciencias de la Actividad Física y el depor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INEF de Mad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8CD-F461-4713-BF48-FF1F5EE19C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3. Programa de interven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9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grama de intervención se estructuró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f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fianza y particip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ción de valores a través de l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ducación Física y el dep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ferencia de lo aprendido a otro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ámbitos de la vida cotid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A4C-73C6-436F-A3A8-23BE2BD9BB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 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ablecimiento de un ambiente positivo entre todos los integrantes basado en la confia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establecer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ción de afecto y confianza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estrategi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ue componen este nivel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afectivas del gru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 de los objetivos del program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técnic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ás importantes utilizadas fuer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i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eglas generales con la idea de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as reglas pero cla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las responsabilidades a los    alum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B6A-7526-4522-A3DB-1303E917D2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seguir l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icipación en las actividades program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grar 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elección de l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es en función de los val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quisieron trabajar con los alumn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dores plantearon  propue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ueron delegando responsabilidad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dirección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la sesió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ción in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objetivos en va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s necesar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con momentos de reflex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s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43A-667D-4084-A7FB-D640EBDEA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ác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Experiencias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escasas, existentes dirigidas hacia tres gru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ámbito de las toxicoman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ámbito edu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sobre poblaciones en instituciones penitenciarias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(Balibrea, Santos y Lerma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   Nuestro trabajo centrado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Población reclusa del Centro Penitenciario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Huelva.(prevención terci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Alumnos de Centros de garantía Social de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C. de Madrid. (prevención secu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Niños y jóvenes en una zona marginal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Alicante. (prevención primaria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D8B-60EF-4C75-B12B-6F1710C40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VEL II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as actividades que se utilizaron, destacaron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portes tradicionales adaptad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útbol, baloncesto, voleibol, balon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portes alternativo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hockey, balonkorf,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Juegos cooperativo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atio, relevo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ctivid. cooperativas de ret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lina, rappel,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ctivid. al aire lib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ciudad y en naturaleza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Otras actividade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atinaje sobre ruedas y sobre hielo, bailes de salón, expresión corporal, artes mar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013-568B-4776-A47D-33BFF2E32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2.  Promoción de valores a través de la actividad física y el depor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dad en l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que se van a traba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principal elegid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SPONSABILIDAD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en sus dos vertientes: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personal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ada en dos pun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control de la condu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gración y cooperación con los de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025-8A80-4B32-9CF1-CAF32D3037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2.  Promoción de valores a través de la actividad física y el depor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III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control de las conductas agresivas y violent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strategias más   utilizadas fue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Normas práctic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 explicar en las activid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olución pacífic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 conflict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estrateg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ó a   lo largo de toda el 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43400" y="9140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I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 y co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educació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ciones interculturales con el fin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venir conductas raci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xenófobas.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que se incluyer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ción estratégica de la composición de los gru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s a practicar en las actividad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548-9FC6-4C1A-AFEC-71724FE6C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3: Transferencia de los aprendizajes a la realidad  personal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 aplicación se realizó a lo largo de toda la intervención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as estrategias utilizadas desta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flexión personal y grupal con los alumn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l desarrollo de 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bien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 teóric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reación de hábitos de vida saludabl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 de las actividades deportivas, se propiciaron charlas sobre la higiene y la salud, las drogodependencias y educación sexu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A61-5ECC-4E87-A46C-DF7110C265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1. Limitaciones en el modelo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empo fue insufic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para conseguir cambios verdaderamente significativos en los jóvenes, sin embargo se consiguió modificar algunas actitudes que fueron posi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EDF-3C7E-4F11-8BDA-15466741E1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2. Utilidad del modelo en el cambio de actitu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control de las reacciones emocion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jo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minuyó el número de situaciones viol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uer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es de respetar y aceptar las reglas y normas de traba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mostró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nivel coeducativ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se produjo ninguna mejora signific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 intercul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se intervino mucho, ya qu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se dieron problem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7D9-DAAE-4368-9323-120F02A621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3.Utilidad del modelo desde el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o de vista de los 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o ú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potenciar mejoras en las actitudes de los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4.Posibles aspectos a mejorar en el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mpliar el tiem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mismo grupo de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el número de horas sema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Tratar d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uar con gente más jo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8 a 10 añ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EAE-7ACE-4AF7-B78D-AF0A5F4B36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5. Conclusión y resumen f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hora de realizar un modelo de intervención es necesario un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etodología preci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Recursos adaptado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8BF-F196-4A22-A2D6-202B5AB273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5. Conclusión y resumen final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que se desarrolle con claridad los siguientes asp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terminación de los valor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tablecimiento de las actividades y estrategi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permitan alcanzar los 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valu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utilización de los resultados para verificar la ef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0FB-22FF-4A0A-AA0B-5AC205D6FA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6. Continuidad del proyecto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actualid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interviene directamente con ningún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  La experiencia dió lugar a la creación de una asignatura específica en el INEF llamada  Modelos de Intervención y Técnicas de Investigación para educar en valores a través de la actividad física y el deport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055-3C50-46ED-A114-CEC08EFF11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419720" cy="350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6858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858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858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7621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33520"/>
            <a:ext cx="7704000" cy="13129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1. El deporte en el centr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itenciario de Hue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EF9-C227-418B-AE3B-79D41284F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304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 Niños y jóvenes en una zona marginal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de Alicante.    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Centros Sociales de Alica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2933640" cy="2333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90720" y="5029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 Soc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ón Castell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029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 Soc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irgen del Carm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F85-D8A0-4184-BE80-D1EEF46BCD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7760"/>
            <a:ext cx="8382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 Niños y jóvenes en una zona marginal de Alican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1.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yuntamiento por medio de la Concejalía de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Social y más concretamente 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rvici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ci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levan a cabo una intervención desde l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física y el deporte hacía los jóv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2. Centros sociales y Centros Juven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s y servici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igidos 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blació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r su calidad de vida y l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grac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u entorno social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ntros Juveni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ertan a los jóvene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 educativas, de ocio y tiempo libre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BC5-E83F-4A69-84A1-C49E79B5B3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3.Ámbito de actuación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 Centros Sociales, son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lamad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Gastón Castelló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nombr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Virgen del Carmen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ocido popularmente como las “Mil viviendas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rrio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bicados en la zona n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a población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5.000 habita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han estableci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as de españoles con  escasos recursos y familias de extranjeros con una gran proporción de gente j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225-ED4B-435D-9567-3DA910993D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3.Ámbito de actuación</a:t>
            </a:r>
            <a:r>
              <a:rPr b="1" i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atos estadístic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22,42 % son extranjeros.  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48,53% de los menores de 29 años carecen de ninguna titulación acadé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iste un 60% de paro juvenil.    - 90%  no tiene ningún tipo de titulación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de cada 4 alumnos reglados se encuentran en situación compensatoria.  - Gr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tismo esco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54,5 de los menores de protección y medidas judiciales atendidos en el 2004 pertenecen a estos bar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fraestructuras deportivas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casa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icient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682-06D0-4A7B-8601-C518058812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4. Actuación.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s de prevención comunitaria y de reinserción para adolescent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ducación en la cal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mover procesos de socialización en el sector infantil y juvenil, a través de actividades lúdico-educativas en los centros juven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 fundament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ción del tiemp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je de hábitos salu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fís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quisición de nor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B75-CA72-4131-A8C3-3C0F5DEA32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4. Actuación.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do el curso académic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s tar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articipando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ciones los fines de sem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físicas co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Gimnasia.     - Bailes de salón.    - Ori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eróbic.         - Baloncesto.          - Fútbol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lementan c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os intercentros y actividades en la naturale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 deportivo no era cerrad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nzó el 2003, a lo largo de estos años muchos jóvenes han podido disfrutar de este re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8B2-D37B-4FAA-B79F-304EF4236A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5. Continuidad del proyecto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actualidad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 parece que se ha ido diluyend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ía  se mantienen las sesiones de aeróbic, mayoritariamente en las chicas y el fútbol sala en los ch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ualm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programa deportivo está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a instalación municip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vidido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ses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s días a la semana realizando actividades deportivas, y un tercer día, los fines de semana participando en competiciones punt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900-0B82-476B-91CF-652994190E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6. Conclusiones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yecto com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ea fue bastante bue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bería estar incluido en planes global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cesidad de voluntad política que promoci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iciativas a medio y largo plaz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os plan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tuvieron una dotación económica específica, necesidad d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personal especial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alto nivel de preparación técnica deportiva unido a los profesionales de la acción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otro lado falt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 de integr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seguir una integración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168-CB59-4227-883D-96A256714D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</a:t>
            </a:r>
            <a:r>
              <a:rPr b="1" lang="en-US" sz="4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C. Conclusiones final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surgidos en las experiencias comentad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lta de apoy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cial y polític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ciones puntu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 políticas a corto plaz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casez de recurs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luntarismo forza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dos de las experie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213-85CC-4340-BDD5-EBF9E83F36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C. Conclusiones fina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bajo no bien renume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personal especial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nocimiento públic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tarea profesional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lta de un plan de integr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líticos no convenc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beneficios la actividad física  y el deporte para la reinserción social de jóvenes en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ED4-DCF7-4BF2-BA9B-883D77CA1F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2. Infraestructura y población de la cárcel de Huelv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fraestructu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 modernas de Espa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acin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ixta.                  - gimnas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módul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- pista polid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enis de m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 centro dispone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bellón cub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mnasio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pistas de squ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cina al aire li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o de fútbol con p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atlet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ficas instal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blación recl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de edad de 25 a 3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fil del preso ti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ncidente, toxicóma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s familiares, bajo nivel de instrucción y baja 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empo de ocio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si seis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orte: fútbol sala (homb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jeres no hacen deport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o 10 %: voleibol y badmin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l especializado en depo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3 personas fijas y 2 eventuale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6668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AB0-2D64-4341-962C-B594B78BA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80773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autas para experiencia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tener en cuenta qu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actividad física y el deporte por s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lo no va a resolver el problem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ir acompañadas d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tros plane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 acción social en todos lo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ámbitos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283-E1B0-478C-9BAA-7D5DFBFE88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ogramas respaldados por políticas que programen iniciativas a medio y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polít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erá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os globa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 un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ía prec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 objetivos concreto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ctividades y estrategias práctic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o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gan opera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écnicas de evalu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ecuadas que n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an confirmar si se ha producido u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 en los valores y actitudes de los jóven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 la interve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89A-1127-4E3D-9BCA-B4BEC890DF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ontinuidad necesar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garantice el éxit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i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otaciones económicas sufici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an la continuidad de los programa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reación de relaciones con el entor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los centros y asociaciones de l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que ayuden y colaboren en e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ersonal técnico especial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rupo de trabajo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ersonal competente y bien formado, tanto a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de técnicos deportivos titulados co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es de la acción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E07-FDA5-4D92-9FD5-87DF752F5C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arácter cooperativo de las actividad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no excesivamente regl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arácter lúdico como práctica de ocio y tiempo li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ariedad en las actividad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iendo si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enta las demandas y gustos deportiv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óvenes, y  que les suponga un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  interesa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ser úti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ortes tradicionales adapt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ortes altern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al aire libre y de aven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tra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EFD-7E0B-4D12-9439-6A4F9A31AA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volucrar a los jóvenes en la gestión de los   programa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jóvenes participes de la actividad y de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ción y gestión de dicha activida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tegración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seguir una integración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avorecer  la inserción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curando que los jóvenes más interesados a partir de estos planes puedan tener acceso al mundo laboral como animadores deportivos, monitores de actividad física, entren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5A9-650B-4DDB-91B8-94680D710E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1. Proyecto: curso  de dinamización deportiv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analizar el valor deporte para la reinserción del recluso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Realización de curso deportivo para los reclusos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FASES:</a:t>
            </a:r>
            <a:r>
              <a:rPr b="1" lang="es-E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ción teórica previa del mundo carcel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- duración, dos meses, 2 días sema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10 deportes distinto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130 internos: 110 hombres, 20 muje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ª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nidos del programa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- iniciación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iniciación táctic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formas jug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torneo entre los participant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0B4-3459-491F-B79A-1327BF39E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PRÁCTICA: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de los 110 participantes del curs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es del proyecto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practica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cticab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deporte: Fútbol  23´9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deporte: F.sala   21´4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deporte: Fitness 12´8 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 Otros deportes practicados de forma minoritaria, por falta de personal especializad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u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sigue sin hacer deporte nunca o casi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deporte: Fútbol, porcentajes par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deporte: Natación 16´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deporte: F.s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 deporte: Atletismo 1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orporan a la list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ación y atlet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cesidad de personal especi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835-9CA8-4F8A-A79E-15C430A1EC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a inscribirse :  Para seguir asist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forma fís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91’4           96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que e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no para la salu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94           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que pensé qu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ía diverti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83’2           93’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pasar el tiempo (distracción):   79’5           78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descargar tensiones:                 74`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78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demostrar a gente de fuera có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los presos como personas:       65’8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’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28600"/>
            <a:ext cx="71629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TIVACION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práctica depor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B85-49CE-467D-8C3C-FCC7C8DFF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br>
              <a:rPr sz="3600"/>
            </a:b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221304"/>
                </a:solidFill>
                <a:uFillTx/>
                <a:latin typeface="Times New Roman"/>
              </a:rPr>
              <a:t>Influencias del programa en  la vida de los presos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si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reclusos eligieron la opc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h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yudado mucho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pertenecer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aborar con un gru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igirse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a uno mism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-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ser más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liz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internos el hacer deporte le ha ayud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aprender 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eptar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mplir regl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ar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s e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la drogadicción, el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irman que le ha ayudad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consumir dro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1A7-A44C-4CB9-AA78-5D517CBAE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3. La mujer reclusa y el programa deportivo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20 participantes del cur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acticaba de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ía practicaba aerób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deportes practicados por pocas y con poca frecuencia; eran la natación, culturismo, voleibol, atletismo y fútb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deportes realizados, los que más gustar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: Fútbol elegido por el 45’5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: Aeróbic elegido por el 40’9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: Natación elegido por el 9’1 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: Fútbol sala elegido por el 4’5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380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209680"/>
            <a:ext cx="4572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A75-1987-4434-845D-2362273C4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49:57Z</dcterms:created>
  <dc:creator>NOLO</dc:creator>
  <dc:description/>
  <dc:language>en-US</dc:language>
  <cp:lastModifiedBy>NOLO</cp:lastModifiedBy>
  <dcterms:modified xsi:type="dcterms:W3CDTF">2007-05-12T20:25:05Z</dcterms:modified>
  <cp:revision>59</cp:revision>
  <dc:subject/>
  <dc:title>El Deporte como prevención de la violencia en los jóvenes de riesgo</dc:title>
</cp:coreProperties>
</file>